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ABD-670C-424A-A8D8-A2024C6C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B37-62C0-48C0-98C5-6208C251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EE4-55D4-4795-8372-DC4EB750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81F-73F5-4149-9CB4-4E0BDDB0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780-EE10-4F6A-A24A-07D6263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96D-5996-42CE-8828-121CA74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674-F2C3-4CF4-8538-1276EED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B93-9711-476F-8D72-A552815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0BF-B891-40A3-A188-F574271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85D-CA8A-4092-8E7E-B86E0A5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08A-F94A-41F6-9337-DE4C9A3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A74-856E-4F97-8C08-3698614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1CD6-E49F-4946-A1A4-02315F7F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990720"/>
            <a:ext cx="3724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re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arthquake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ire of 19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476520" cy="322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8769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7480" y="5602320"/>
            <a:ext cx="814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ew of the city as it burns up.  Can you imagine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smoke went up into the air that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8880" y="5573880"/>
            <a:ext cx="89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is a view of a tent city set up for the refugees—people withou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to go to.  The amount of people that needed help was tremend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ent camps helped feed them and give them a place to 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880" y="1027080"/>
            <a:ext cx="112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362640" cy="482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600" y="5181480"/>
            <a:ext cx="890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 began working immediately to repair all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ormous damage created by the earthquake and f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be sure that they made things safer for the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8560" y="4941720"/>
            <a:ext cx="78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side look at the San Andreas Faul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runs through along the Pacific coas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the large cities of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5880" y="53737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picture of downtown San Francisco befor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quake shook and cracked it apart.   Also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 destroyed so much of the famous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8800" y="5246640"/>
            <a:ext cx="815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shows the fault line running alo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North America continent which contain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, Canada, and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784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5880" y="4038480"/>
            <a:ext cx="45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ok at how the city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 Francisco, Califor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ars today.  It i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emely beautiful c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7680" y="685800"/>
            <a:ext cx="383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 out all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azingly 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yscrape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10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2480" y="4621320"/>
            <a:ext cx="848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ormous city by the bay has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y restored to its natural beauty. 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bridges and buildings have been bu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hopefully withstand future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492360" cy="363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301920" cy="4457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960" y="4303800"/>
            <a:ext cx="456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ouses were shifted and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l down to total ruins.  Many fami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he belongings.  Unfortunately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homes belonged to midd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income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1720" y="304920"/>
            <a:ext cx="50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rthquake began at 5:13 a.m. 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ere still at home in their 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ware of what was going on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eat quake was felt from the stat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egon all the way to 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6200" y="605952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the desperation this man must be fee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461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0360" y="50688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icture shows the city after the disaster.  Even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icture is black and white, you can still tell how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city lies in ruins.  It was a huge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302280" cy="44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489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8080" y="4916520"/>
            <a:ext cx="43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lephone and tele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wer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when the quake hit. 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getting help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360" y="571500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icture of the completely torn apart city hall.  It must have b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ast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at everything around you suddenly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9840" y="5068800"/>
            <a:ext cx="775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cracks appeared during the earthquake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were nearly swallowed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0:29:24Z</dcterms:created>
  <dc:creator>Rutherford County Schools</dc:creator>
  <dc:description/>
  <dc:language>en-US</dc:language>
  <cp:lastModifiedBy>Rutherford County Schools</cp:lastModifiedBy>
  <dcterms:modified xsi:type="dcterms:W3CDTF">2007-04-21T15:52:44Z</dcterms:modified>
  <cp:revision>3</cp:revision>
  <dc:subject/>
  <dc:title>Slide 1</dc:title>
</cp:coreProperties>
</file>